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9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866B-B3A1-4A29-87A5-58A8FACF6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85720" y="151920"/>
            <a:ext cx="735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0680" y="1885680"/>
            <a:ext cx="77850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50680" y="4064760"/>
            <a:ext cx="77850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A045-D14F-4488-B429-CCDFB829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85720" y="151920"/>
            <a:ext cx="735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50680" y="1885680"/>
            <a:ext cx="37987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39840" y="1885680"/>
            <a:ext cx="37987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0680" y="4064760"/>
            <a:ext cx="37987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39840" y="4064760"/>
            <a:ext cx="37987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A56D-A5D3-4AD1-BA99-07C9451A4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85720" y="151920"/>
            <a:ext cx="735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50680" y="1885680"/>
            <a:ext cx="250668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83000" y="1885680"/>
            <a:ext cx="250668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5320" y="1885680"/>
            <a:ext cx="250668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50680" y="4064760"/>
            <a:ext cx="250668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83000" y="4064760"/>
            <a:ext cx="250668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5320" y="4064760"/>
            <a:ext cx="250668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B690-74DA-401F-8753-DB71EA07B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FB2A-737E-429D-86B3-94FB0ADD5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85720" y="151920"/>
            <a:ext cx="735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50680" y="1885680"/>
            <a:ext cx="77850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B61F-95A9-46E2-9CF8-6738948E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85720" y="151920"/>
            <a:ext cx="735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0680" y="1885680"/>
            <a:ext cx="7785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BEB7-D691-4704-9B6F-373BF8AE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85720" y="151920"/>
            <a:ext cx="735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50680" y="1885680"/>
            <a:ext cx="37987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39840" y="1885680"/>
            <a:ext cx="37987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A6B8-4560-4737-9613-BE625C5B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85720" y="151920"/>
            <a:ext cx="735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FA5C-7964-441C-A51F-990FAAA4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85720" y="151920"/>
            <a:ext cx="7353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C89C-17E3-4A56-BF58-C4D8CB8A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85720" y="151920"/>
            <a:ext cx="735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50680" y="1885680"/>
            <a:ext cx="37987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39840" y="1885680"/>
            <a:ext cx="37987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50680" y="4064760"/>
            <a:ext cx="37987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38DA-CC08-4D63-893D-7D58A968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85720" y="151920"/>
            <a:ext cx="735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50680" y="1885680"/>
            <a:ext cx="77850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ACC4-3A01-43C2-AE65-DD64EFD0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5720" y="151920"/>
            <a:ext cx="735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50680" y="1885680"/>
            <a:ext cx="37987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9840" y="1885680"/>
            <a:ext cx="37987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39840" y="4064760"/>
            <a:ext cx="37987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4C56-AC97-4549-9F0F-EA15FBBD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85720" y="151920"/>
            <a:ext cx="735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50680" y="1885680"/>
            <a:ext cx="37987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9840" y="1885680"/>
            <a:ext cx="37987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50680" y="4064760"/>
            <a:ext cx="77850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2B7E-A1F7-4835-86E8-5645C431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85720" y="151920"/>
            <a:ext cx="735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50680" y="1885680"/>
            <a:ext cx="77850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50680" y="4064760"/>
            <a:ext cx="77850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186B-45EF-4027-822D-9D0D889F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85720" y="151920"/>
            <a:ext cx="735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50680" y="1885680"/>
            <a:ext cx="37987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9840" y="1885680"/>
            <a:ext cx="37987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50680" y="4064760"/>
            <a:ext cx="37987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39840" y="4064760"/>
            <a:ext cx="37987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5406-938D-47F9-905E-1E17B68E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85720" y="151920"/>
            <a:ext cx="735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50680" y="1885680"/>
            <a:ext cx="250668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83000" y="1885680"/>
            <a:ext cx="250668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15320" y="1885680"/>
            <a:ext cx="250668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50680" y="4064760"/>
            <a:ext cx="250668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83000" y="4064760"/>
            <a:ext cx="250668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15320" y="4064760"/>
            <a:ext cx="250668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1CCF-2BBA-4D06-933E-FE2243F28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85720" y="151920"/>
            <a:ext cx="735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50680" y="1885680"/>
            <a:ext cx="7785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A5C2-A8FE-423A-A3EF-7D5762D0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85720" y="151920"/>
            <a:ext cx="735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50680" y="1885680"/>
            <a:ext cx="37987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39840" y="1885680"/>
            <a:ext cx="37987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2927-92B3-4D78-AA29-6A559DA6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85720" y="151920"/>
            <a:ext cx="735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5A81-E8E7-4224-86CF-A0A3D46C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85720" y="151920"/>
            <a:ext cx="7353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B57B-FEB7-49C2-8543-65F1B0A2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85720" y="151920"/>
            <a:ext cx="735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50680" y="1885680"/>
            <a:ext cx="37987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9840" y="1885680"/>
            <a:ext cx="37987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50680" y="4064760"/>
            <a:ext cx="37987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A1AF-1982-4E06-B91F-4A8486C8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85720" y="151920"/>
            <a:ext cx="735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50680" y="1885680"/>
            <a:ext cx="37987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9840" y="1885680"/>
            <a:ext cx="37987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9840" y="4064760"/>
            <a:ext cx="37987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1703-99DB-466B-91B9-538E11E6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85720" y="151920"/>
            <a:ext cx="735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50680" y="1885680"/>
            <a:ext cx="37987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9840" y="1885680"/>
            <a:ext cx="37987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50680" y="4064760"/>
            <a:ext cx="77850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1D12-39B7-488F-9378-9319FD5C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85720" y="151920"/>
            <a:ext cx="735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0680" y="1885680"/>
            <a:ext cx="7785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E9E6-47F8-4481-9362-3C34D9AA33BF}" type="datetime2">
              <a:rPr b="0" lang="en-US" sz="1400" spc="-1" strike="noStrike">
                <a:solidFill>
                  <a:srgbClr val="5e574e"/>
                </a:solidFill>
                <a:latin typeface="Arial"/>
              </a:rPr>
              <a:t>Wednesday, 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EF11-8510-4F23-85E5-F2355D3DED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6200000">
            <a:off x="53280" y="41803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-1395360" y="3993840"/>
            <a:ext cx="391176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mlq_logo_small" descr=""/>
          <p:cNvPicPr/>
          <p:nvPr/>
        </p:nvPicPr>
        <p:blipFill>
          <a:blip r:embed="rId3"/>
          <a:stretch/>
        </p:blipFill>
        <p:spPr>
          <a:xfrm>
            <a:off x="127080" y="380880"/>
            <a:ext cx="1325520" cy="11811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65240" y="1511280"/>
            <a:ext cx="869940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38120" y="1847520"/>
            <a:ext cx="64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19DC-BA67-4779-88D1-6CDED257385D}" type="datetime2">
              <a:rPr b="0" lang="en-US" sz="1400" spc="-1" strike="noStrike">
                <a:solidFill>
                  <a:srgbClr val="5e574e"/>
                </a:solidFill>
                <a:latin typeface="Arial"/>
              </a:rPr>
              <a:t>Wednesday, 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3F12-6310-421D-A577-0A7F6BAB2A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MLQ_Long" descr=""/>
          <p:cNvPicPr/>
          <p:nvPr/>
        </p:nvPicPr>
        <p:blipFill>
          <a:blip r:embed="rId3"/>
          <a:stretch/>
        </p:blipFill>
        <p:spPr>
          <a:xfrm>
            <a:off x="644400" y="525600"/>
            <a:ext cx="4916520" cy="1030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451"/>
              </a:spcBef>
              <a:buClr>
                <a:srgbClr val="cc00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51"/>
              </a:spcBef>
              <a:buClr>
                <a:srgbClr val="cc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cc0000"/>
              </a:buClr>
              <a:buFont typeface="Comic Sans MS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8" name="DCP_0501" descr=""/>
          <p:cNvPicPr/>
          <p:nvPr/>
        </p:nvPicPr>
        <p:blipFill>
          <a:blip r:embed="rId2"/>
          <a:srcRect l="14728" t="14735" r="11501" b="1979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585440" y="3516120"/>
            <a:ext cx="6975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Century Gothic"/>
              </a:rPr>
              <a:t>Guide Luxembourgeois</a:t>
            </a:r>
            <a:br>
              <a:rPr sz="3600"/>
            </a:br>
            <a:r>
              <a:rPr b="1" lang="fr-CH" sz="3600" spc="-1" strike="noStrike">
                <a:solidFill>
                  <a:srgbClr val="ffffff"/>
                </a:solidFill>
                <a:latin typeface="Century Gothic"/>
              </a:rPr>
              <a:t>pour la Qualité</a:t>
            </a:r>
            <a:br>
              <a:rPr sz="3600"/>
            </a:br>
            <a:r>
              <a:rPr b="1" lang="fr-CH" sz="3600" spc="-1" strike="noStrike">
                <a:solidFill>
                  <a:srgbClr val="ffffff"/>
                </a:solidFill>
                <a:latin typeface="Century Gothic"/>
              </a:rPr>
              <a:t>200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85720" y="151920"/>
            <a:ext cx="735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Comic Sans MS"/>
              </a:rPr>
              <a:t>Comment l’obtenir 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1703160" y="3751200"/>
            <a:ext cx="63100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Mouvement Luxembourgeois pour la Qua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Yves Col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66, rue de Luxembourg - L-4221 Esch-sur-Alzet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él : 545.580.580 - fax : 545.580.501 - E-mail : info@mlq.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http://www.mlq.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MLQ_Long" descr=""/>
          <p:cNvPicPr/>
          <p:nvPr/>
        </p:nvPicPr>
        <p:blipFill>
          <a:blip r:embed="rId2"/>
          <a:stretch/>
        </p:blipFill>
        <p:spPr>
          <a:xfrm>
            <a:off x="2400480" y="2220840"/>
            <a:ext cx="4916160" cy="103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85720" y="151920"/>
            <a:ext cx="735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Comic Sans MS"/>
              </a:rPr>
              <a:t>Comment l’obtenir 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2595600" y="1922400"/>
            <a:ext cx="627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Comic Sans MS"/>
              </a:rPr>
              <a:t>Chambre de Comme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Euro Info Centre - Luxembourg PME/P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31, boulevard Konrad Adenauer</a:t>
            </a:r>
            <a:r>
              <a:rPr b="0" lang="fr-CH" sz="18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uxembourg-Kirchberg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el: 42 39 39 333</a:t>
            </a:r>
            <a:r>
              <a:rPr b="0" lang="fr-CH" sz="18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ax: 43 83 26</a:t>
            </a:r>
            <a:r>
              <a:rPr b="0" lang="fr-CH" sz="18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-mail:eic@cc.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http://www.</a:t>
            </a:r>
            <a:r>
              <a:rPr b="1" lang="fr-CH" sz="1800" spc="-1" strike="noStrike">
                <a:solidFill>
                  <a:srgbClr val="000000"/>
                </a:solidFill>
                <a:latin typeface="Comic Sans MS"/>
              </a:rPr>
              <a:t>eic luxembourg.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CdC_4x2,5_200ppp_nb" descr=""/>
          <p:cNvPicPr/>
          <p:nvPr/>
        </p:nvPicPr>
        <p:blipFill>
          <a:blip r:embed="rId2"/>
          <a:stretch/>
        </p:blipFill>
        <p:spPr>
          <a:xfrm>
            <a:off x="210960" y="1782720"/>
            <a:ext cx="2349720" cy="1374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633760" y="4118040"/>
            <a:ext cx="6270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Chambre des Mét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Euro Info Centre - Luxembourg P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31, boulevard Konrad Adenauer</a:t>
            </a:r>
            <a:r>
              <a:rPr b="0" lang="fr-CH" sz="18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uxembourg-Kirchberg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él.: 42 67 67-230</a:t>
            </a:r>
            <a:r>
              <a:rPr b="0" lang="fr-CH" sz="1800" spc="-1" strike="noStrike">
                <a:solidFill>
                  <a:srgbClr val="000000"/>
                </a:solidFill>
                <a:latin typeface="Comic Sans MS"/>
              </a:rPr>
              <a:t> - Fax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: 42 67 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-mail: eic@chambre-des-metiers.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http://www.chambre-des-metiers.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CdM_3,5cm_200ppp_rgb" descr=""/>
          <p:cNvPicPr/>
          <p:nvPr/>
        </p:nvPicPr>
        <p:blipFill>
          <a:blip r:embed="rId3"/>
          <a:stretch/>
        </p:blipFill>
        <p:spPr>
          <a:xfrm>
            <a:off x="533520" y="3565440"/>
            <a:ext cx="164448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utiens publicitaires par secteu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14240" y="1771560"/>
            <a:ext cx="395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-up dans les ressources humain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ceal Resource Management sàr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ertificateur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SCE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QM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NC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FAQ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onsultan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vanced Integrated Technologies Group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runo Goubet Consultan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elta Management Luxembou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uxcontrol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rog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cteur financi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ourse de Luxembourg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neip Communication S.A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HORESC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ofite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-commerce trustmark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2360" y="17715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cteur industriel et électricité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-24264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very Denni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-24264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TI System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-24264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fotechniqu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-24264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uller et Fil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-24264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ul Wurt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-24264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iemen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rvice public et santé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-24264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F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-24264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RP-Santé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-24264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tente des Hôpitaux Luxembourgeoi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-24264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 &amp; 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formatique logiciel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-24264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icrolog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-24264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Vivald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iduciai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ofint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oncessionnaire automobil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-24264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toile Garag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-242640">
              <a:lnSpc>
                <a:spcPct val="90000"/>
              </a:lnSpc>
              <a:spcBef>
                <a:spcPts val="349"/>
              </a:spcBef>
              <a:buClr>
                <a:srgbClr val="cc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ercedes Benz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85720" y="151920"/>
            <a:ext cx="735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cteurs du Gu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1" name="Logo_OLAS" descr=""/>
          <p:cNvPicPr/>
          <p:nvPr/>
        </p:nvPicPr>
        <p:blipFill>
          <a:blip r:embed="rId2"/>
          <a:stretch/>
        </p:blipFill>
        <p:spPr>
          <a:xfrm>
            <a:off x="2004840" y="363384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92" name="CRP_hor_150x35_rgb" descr=""/>
          <p:cNvPicPr/>
          <p:nvPr/>
        </p:nvPicPr>
        <p:blipFill>
          <a:blip r:embed="rId3"/>
          <a:stretch/>
        </p:blipFill>
        <p:spPr>
          <a:xfrm>
            <a:off x="5148360" y="5235480"/>
            <a:ext cx="3387600" cy="816120"/>
          </a:xfrm>
          <a:prstGeom prst="rect">
            <a:avLst/>
          </a:prstGeom>
          <a:ln w="0">
            <a:noFill/>
          </a:ln>
        </p:spPr>
      </p:pic>
      <p:pic>
        <p:nvPicPr>
          <p:cNvPr id="93" name="min_eco_4x2_200ppp_rgb" descr=""/>
          <p:cNvPicPr/>
          <p:nvPr/>
        </p:nvPicPr>
        <p:blipFill>
          <a:blip r:embed="rId4"/>
          <a:stretch/>
        </p:blipFill>
        <p:spPr>
          <a:xfrm>
            <a:off x="4965840" y="3070080"/>
            <a:ext cx="2784240" cy="1229040"/>
          </a:xfrm>
          <a:prstGeom prst="rect">
            <a:avLst/>
          </a:prstGeom>
          <a:ln w="0">
            <a:noFill/>
          </a:ln>
        </p:spPr>
      </p:pic>
      <p:pic>
        <p:nvPicPr>
          <p:cNvPr id="94" name="LOGO_MLQ_ASBL" descr=""/>
          <p:cNvPicPr/>
          <p:nvPr/>
        </p:nvPicPr>
        <p:blipFill>
          <a:blip r:embed="rId5"/>
          <a:stretch/>
        </p:blipFill>
        <p:spPr>
          <a:xfrm>
            <a:off x="281160" y="1781280"/>
            <a:ext cx="5608440" cy="103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5400" y="151920"/>
            <a:ext cx="397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iss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90200" y="1755360"/>
            <a:ext cx="7785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ccréditation   =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reconnaissance formelle des compétence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=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démarche volontai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=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reconnaissance internationale des certificats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=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indispensable à la libre circulation des produits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et service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ccrédit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aboratoires d’essais et d’étalonn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rganismes d’inspection et de certific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SC émettant des certificats liés aux signatures électroniques ou fournissant d’autres servies liés aux signatures électroniqu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Notification, surveill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SC émettant des certificats qualifiés liés aux signatures électroniqu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7" name="Logo_OLAS_simple_small" descr=""/>
          <p:cNvPicPr/>
          <p:nvPr/>
        </p:nvPicPr>
        <p:blipFill>
          <a:blip r:embed="rId2"/>
          <a:stretch/>
        </p:blipFill>
        <p:spPr>
          <a:xfrm>
            <a:off x="7207200" y="119160"/>
            <a:ext cx="1584360" cy="1209600"/>
          </a:xfrm>
          <a:prstGeom prst="rect">
            <a:avLst/>
          </a:prstGeom>
          <a:ln w="0">
            <a:noFill/>
          </a:ln>
        </p:spPr>
      </p:pic>
      <p:pic>
        <p:nvPicPr>
          <p:cNvPr id="98" name="Olas_signet" descr=""/>
          <p:cNvPicPr/>
          <p:nvPr/>
        </p:nvPicPr>
        <p:blipFill>
          <a:blip r:embed="rId3"/>
          <a:stretch/>
        </p:blipFill>
        <p:spPr>
          <a:xfrm>
            <a:off x="7399440" y="2982960"/>
            <a:ext cx="151920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85720" y="164880"/>
            <a:ext cx="735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Comic Sans MS"/>
              </a:rPr>
              <a:t>Mouvement Luxembourgeois pour la Qualité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iss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50680" y="1885680"/>
            <a:ext cx="7785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ission 1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: Être à l'écoute des organismes adhérents, pour les orienter dans leur démarche et mettre à leur disposition de l'information et des outils. Favoriser l’échange entre les adhérents pour la diffuser des bonnes pratiqu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ission 2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: Promouvoir le management global de la Qualité auprès des entreprises et organismes luxembourgeois, pour un développement durable et une amélioration continue de leurs performances.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ission 3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 : Représenter, au niveau européen et international, les initiatives menées au Grand-Duché de Luxembour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85720" y="151920"/>
            <a:ext cx="735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Objectifs du </a:t>
            </a:r>
            <a:r>
              <a:rPr b="0" lang="fr-CH" sz="36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u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0680" y="1885680"/>
            <a:ext cx="7785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ournir une information </a:t>
            </a:r>
            <a:r>
              <a:rPr b="0" lang="fr-CH" sz="2400" spc="-1" strike="noStrike">
                <a:solidFill>
                  <a:srgbClr val="000000"/>
                </a:solidFill>
                <a:latin typeface="Comic Sans MS"/>
              </a:rPr>
              <a:t>pratique,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ynthétique et pertinente</a:t>
            </a:r>
            <a:r>
              <a:rPr b="0" lang="fr-CH" sz="2400" spc="-1" strike="noStrike">
                <a:solidFill>
                  <a:srgbClr val="000000"/>
                </a:solidFill>
                <a:latin typeface="Comic Sans MS"/>
              </a:rPr>
              <a:t> sur les démarches qualit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omic Sans MS"/>
              </a:rPr>
              <a:t>Dossi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omic Sans MS"/>
              </a:rPr>
              <a:t>Liens vers d’autres sources d’inform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omic Sans MS"/>
              </a:rPr>
              <a:t>Présenter des pratiques nationales en matière de qualit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Valoriser le tissu économique national par des retours d’expéri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omic Sans MS"/>
              </a:rPr>
              <a:t>Interview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nformer sur l</a:t>
            </a:r>
            <a:r>
              <a:rPr b="0" lang="fr-CH" sz="2400" spc="-1" strike="noStrike">
                <a:solidFill>
                  <a:srgbClr val="000000"/>
                </a:solidFill>
                <a:latin typeface="Comic Sans MS"/>
              </a:rPr>
              <a:t>es actions et orientations du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Grand-Duché de Luxembourg</a:t>
            </a:r>
            <a:r>
              <a:rPr b="0" lang="fr-CH" sz="2400" spc="-1" strike="noStrike">
                <a:solidFill>
                  <a:srgbClr val="000000"/>
                </a:solidFill>
                <a:latin typeface="Comic Sans MS"/>
              </a:rPr>
              <a:t> en matière de qualit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omic Sans MS"/>
              </a:rPr>
              <a:t>Identifier les acteu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omic Sans MS"/>
              </a:rPr>
              <a:t>Annuai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85720" y="151920"/>
            <a:ext cx="735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lan du Guid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artie I : Les démarches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50680" y="1885680"/>
            <a:ext cx="7785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èmes de management de la qualit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ème de management environnement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écurité alimentai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èmes intégrés de manag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bel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ccrédi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agnostic, audit et évalu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-Qualité : Les gaspillages dans l’entrepri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ibune libre: L’émergence d’une politique qualité au Luxembour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85720" y="151920"/>
            <a:ext cx="735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</a:rPr>
              <a:t>Plan du Guide</a:t>
            </a:r>
            <a:br>
              <a:rPr sz="36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fr-CH" sz="2600" spc="-1" strike="noStrike">
                <a:solidFill>
                  <a:srgbClr val="000000"/>
                </a:solidFill>
                <a:latin typeface="Comic Sans MS"/>
              </a:rPr>
              <a:t>artie </a:t>
            </a:r>
            <a:r>
              <a:rPr b="0" lang="fr-FR" sz="2600" spc="-1" strike="noStrike">
                <a:solidFill>
                  <a:srgbClr val="000000"/>
                </a:solidFill>
                <a:latin typeface="Comic Sans MS"/>
              </a:rPr>
              <a:t>II : D</a:t>
            </a:r>
            <a:r>
              <a:rPr b="0" lang="fr-CH" sz="2600" spc="-1" strike="noStrike">
                <a:solidFill>
                  <a:srgbClr val="000000"/>
                </a:solidFill>
                <a:latin typeface="Comic Sans MS"/>
              </a:rPr>
              <a:t>émarche Qualité par secteu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0680" y="1885680"/>
            <a:ext cx="7785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daptation sectorielle de l’ISO 9000 dans le secteur automobile : ISO/TS 1694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fr-CH" sz="2000" spc="-1" strike="noStrike">
                <a:solidFill>
                  <a:srgbClr val="000000"/>
                </a:solidFill>
                <a:latin typeface="Comic Sans MS"/>
              </a:rPr>
              <a:t>rtisanat et Bâti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c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fr-CH" sz="2000" spc="-1" strike="noStrike">
                <a:solidFill>
                  <a:srgbClr val="000000"/>
                </a:solidFill>
                <a:latin typeface="Comic Sans MS"/>
              </a:rPr>
              <a:t>ecteur financier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fr-CH" sz="2400" spc="-1" strike="noStrike">
                <a:solidFill>
                  <a:srgbClr val="000000"/>
                </a:solidFill>
                <a:latin typeface="Comic Sans MS"/>
              </a:rPr>
              <a:t>ommerce Electronique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: L</a:t>
            </a:r>
            <a:r>
              <a:rPr b="1" lang="fr-CH" sz="2400" spc="-1" strike="noStrike">
                <a:solidFill>
                  <a:srgbClr val="000000"/>
                </a:solidFill>
                <a:latin typeface="Comic Sans MS"/>
              </a:rPr>
              <a:t>e certificat qualité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"L</a:t>
            </a:r>
            <a:r>
              <a:rPr b="1" lang="fr-CH" sz="2400" spc="-1" strike="noStrike">
                <a:solidFill>
                  <a:srgbClr val="000000"/>
                </a:solidFill>
                <a:latin typeface="Comic Sans MS"/>
              </a:rPr>
              <a:t>uxembourg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E-C</a:t>
            </a:r>
            <a:r>
              <a:rPr b="1" lang="fr-CH" sz="2400" spc="-1" strike="noStrike">
                <a:solidFill>
                  <a:srgbClr val="000000"/>
                </a:solidFill>
                <a:latin typeface="Comic Sans MS"/>
              </a:rPr>
              <a:t>ommerce Certified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026120" y="3355920"/>
            <a:ext cx="1270080" cy="143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85720" y="151920"/>
            <a:ext cx="735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lan du Guid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artie III : Outils et méthodologi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50680" y="1885680"/>
            <a:ext cx="7785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utils de résolution de problè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fr-CH" sz="2400" spc="-1" strike="noStrike">
                <a:solidFill>
                  <a:srgbClr val="000000"/>
                </a:solidFill>
                <a:latin typeface="Comic Sans MS"/>
              </a:rPr>
              <a:t>ogigram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fr-CH" sz="2400" spc="-1" strike="noStrike">
                <a:solidFill>
                  <a:srgbClr val="000000"/>
                </a:solidFill>
                <a:latin typeface="Comic Sans MS"/>
              </a:rPr>
              <a:t>éroulement d’un projet de progrè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fr-CH" sz="2400" spc="-1" strike="noStrike">
                <a:solidFill>
                  <a:srgbClr val="000000"/>
                </a:solidFill>
                <a:latin typeface="Comic Sans MS"/>
              </a:rPr>
              <a:t>mélioration continue : une démarche au cœur de la qualit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fr-CH" sz="2400" spc="-1" strike="noStrike">
                <a:solidFill>
                  <a:srgbClr val="000000"/>
                </a:solidFill>
                <a:latin typeface="Comic Sans MS"/>
              </a:rPr>
              <a:t>ix Sig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85720" y="151920"/>
            <a:ext cx="735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lan du Guide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e IV : Annuaire des acteurs de la qualit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50680" y="1885680"/>
            <a:ext cx="7785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tat et politiques publiques </a:t>
            </a:r>
            <a:r>
              <a:rPr b="0" lang="fr-CH" sz="2400" spc="-1" strike="noStrike">
                <a:solidFill>
                  <a:srgbClr val="000000"/>
                </a:solidFill>
                <a:latin typeface="Comic Sans MS"/>
              </a:rPr>
              <a:t>d’aide aux entrepri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fr-CH" sz="2400" spc="-1" strike="noStrike">
                <a:solidFill>
                  <a:srgbClr val="000000"/>
                </a:solidFill>
                <a:latin typeface="Comic Sans MS"/>
              </a:rPr>
              <a:t>hambres, fédérations professionnelles et associ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fr-CH" sz="2400" spc="-1" strike="noStrike">
                <a:solidFill>
                  <a:srgbClr val="000000"/>
                </a:solidFill>
                <a:latin typeface="Comic Sans MS"/>
              </a:rPr>
              <a:t>ouvement Luxembourgeois pour la Qualit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fr-CH" sz="2400" spc="-1" strike="noStrike">
                <a:solidFill>
                  <a:srgbClr val="000000"/>
                </a:solidFill>
                <a:latin typeface="Comic Sans MS"/>
              </a:rPr>
              <a:t>ournisseurs de consultance, outils et service qualit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fr-CH" sz="2400" spc="-1" strike="noStrike">
                <a:solidFill>
                  <a:srgbClr val="000000"/>
                </a:solidFill>
                <a:latin typeface="Comic Sans MS"/>
              </a:rPr>
              <a:t>rganismes de formations sur la qualit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455760" y="5746680"/>
            <a:ext cx="836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ARTIE V : ORGANISMES CERTIFIÉS OU ACCRÉDITÉ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U GRAND-DUCHÉ DE LUXEMBOU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1T05:16:22Z</dcterms:created>
  <dc:creator>Yves Collet</dc:creator>
  <dc:description/>
  <dc:language>en-US</dc:language>
  <cp:lastModifiedBy>stolfr</cp:lastModifiedBy>
  <cp:lastPrinted>2001-11-14T09:10:48Z</cp:lastPrinted>
  <dcterms:modified xsi:type="dcterms:W3CDTF">2003-03-10T07:28:25Z</dcterms:modified>
  <cp:revision>235</cp:revision>
  <dc:subject>Rencontre thématique SPIRAL - 11/09/2001</dc:subject>
  <dc:title>Normes ISO 9000:2000 : vers le Management ed la Qualité</dc:title>
</cp:coreProperties>
</file>