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79B-6A6A-4FBB-A181-6A53C332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F3D-B76B-4802-BB2C-771DCE52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A6C-1533-401F-B5FC-1853BCF4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BC7-EE5F-4289-B490-5D15D329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D7DF-A8A9-42BE-8314-34994ADF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1701-5A8B-4A3B-A39A-6F153BFC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917A-B694-4981-9E19-3ADB11E8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8B67-F682-44E5-B308-50D27699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1A5A-37EB-4B12-9278-BED98631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7C60-0CE2-4382-9D69-18CF76D1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926F-A8A7-4DFD-AB45-0BDB6EC8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E52-0634-41D3-9EF4-B3CEDBF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476A-770C-4BBB-8FD2-3622187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137B-004F-40A8-8FE7-CECF9271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B9C7-B3CA-4579-8EDF-F2AA87B1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2B7E-570E-4601-9F43-4EB74409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A847-9893-41FD-92AB-A686932F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246-4AEC-4056-B6C1-1577FB70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D49-DAC6-4B89-A852-843073EF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D8D-C646-4EC7-9452-CD08CFFA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8D1-37F7-47C0-BFAD-F164D74A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69B-9E06-45D7-A008-E20B7B7F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2E1-06B8-4FAA-9C5D-726B8E42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198-B580-49FF-804E-CF62DEEC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DCC4-5008-4DC2-A96A-5414405D0D5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7675-DCBA-43A8-BAF1-9A455372473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Arial"/>
              </a:rPr>
              <a:t>La politique du maintien dans l’emplo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nistère du Travail et de l'Emploi Département Emplo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La nouvelle législation/4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Homologation du PME par le Ministre du Travail et de l’Emplo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Accompagnement étatique des accords trouvés par des aides/incitations financières: aides à l’embauche, préretraite, prêt temporaire de main-d’œuvre, formations,…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En l’absence de PME, obligation légale d’inclure les points énumérés dans les négociations d’un plan 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stère du Travail et de l'Emploi Département Emplo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Les dossiers lié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uvelles attributions du Comité de conjon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éformes en matière d’activation des chôm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éforme de l’Administration de l’emplo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uveaux instruments de transition de carrière: collaboration avec les entreprises du secteur intérimaire et de recrut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stère du Travail et de l'Emploi Département Emplo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ilan des efforts dans le cadre des restructurations Villeroy&amp;Boch, TDK et Monop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trée en vigueur le 1/01/07 de la loi du </a:t>
            </a: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22 décembre 2006 promouvant le maintien dans l’emploi et définissant des mesures spéciales en matière de sécurité sociale et de politique de l’environn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stère du Travail et de l'Emploi Département Emplo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Bilan des restructuration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tuations individuelles non compar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ilan à titre purement indicati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scussions menées dans le cadre de l’établissement d’un plan 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stère du Travail et de l'Emploi Département Emplo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H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Villeroy &amp; Boch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Fonds de formation doté de € 85.000 (profité par 13% des salariés licenciés) + programme interne d’outplac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Pas de données supplémentaires disponibles sur le maintien dans l’emplo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25% des personnes licenciées touchent actuellement des indemnités de chôm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stère du Travail et de l'Emploi Département Emploi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TD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70% des salariés licenciés ont été suivis par un programme interne  d’outplac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56% des salariés licenciés ont retrouvé un emploi avant la fin de leur préav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Fonds de formation doté de                        € 300.000 profité par 47% des salariés licenci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stère du Travail et de l'Emploi Département Emplo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r-CH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Monopol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Initiative Confédération luxembourgeoise du Commerce pour reprise du personnel par leurs memb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36% des salariés licenciés ont retrouvé un emploi avant la fin de leur préav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Ateliers de recrutement en cours pour la Stëftung Hëllef dohe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stère du Travail et de l'Emploi Département Emplo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H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La nouvelle législation/1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Obligation légale de notifier tout licenciement pour des raisons non inhérentes à la personne du salarié au Comité de conjon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Invitation possible aux partenaires sociaux en vue de négocier un plan de maintien dans l’emploi (PM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stère du Travail et de l'Emploi Département Emplo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La nouvelle législation/2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Examen approfondi de la situation économique et sociale de l’entrepris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2800" spc="-1" strike="noStrike">
                <a:solidFill>
                  <a:srgbClr val="ffffff"/>
                </a:solidFill>
                <a:latin typeface="Arial"/>
              </a:rPr>
              <a:t>Initiative prise par le Comité de conjoncture ou par les partenaires sociau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stère du Travail et de l'Emploi Département Emplo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La nouvelle législation/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ements obligatoires du PM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ménagements de la durée de travail (chômage partiel, temps partiel, réductions du temps de travail, périodes de référence,  comptes épargne-temps,.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ormations continues, reconver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rêt temporaire de main-d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ccompagnement personnel des transitions de carrière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stère du Travail et de l'Emploi Département Emplo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12:13:43Z</dcterms:created>
  <dc:creator>Jeannot Berg</dc:creator>
  <dc:description/>
  <dc:language>en-US</dc:language>
  <cp:lastModifiedBy>Administrator</cp:lastModifiedBy>
  <dcterms:modified xsi:type="dcterms:W3CDTF">2007-02-20T15:20:37Z</dcterms:modified>
  <cp:revision>20</cp:revision>
  <dc:subject/>
  <dc:title>PROJET DE LOI N°5144  relative à la lutte contre le chômage social</dc:title>
</cp:coreProperties>
</file>