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B7D-8AF5-4A77-94A2-0DBD7DEE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2CC-8BD5-4022-BE52-E8E59CF0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560-11B5-45F6-B0EB-9BBFA547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337-6B91-49AD-BF66-442DC984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010-1F4F-4015-BD59-CB045A9B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E7F-8346-4DA7-B1E4-C7D0054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396-E131-4F4C-B701-A0D3BF9A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E1C-5832-4DBF-ABB1-4D60A58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11F-F2CA-42DC-9460-7A47BE0B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D4C-CF1B-4866-95D3-5DEAE54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1CC-1DFE-4D41-9C1F-477270A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F17-6470-45B4-B683-DE9CC6C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25F-FAFC-4D6C-9B98-9478A97A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einf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gasprojekt Minett-Kom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240" y="5877000"/>
            <a:ext cx="82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äsentation zur Pressekonferenz des Umweltministers zum Biogasprojek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 Syndikates MINETT-KOMPOST am 27. Februa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672000" cy="198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2416320"/>
            <a:ext cx="4680000" cy="19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812000" y="2286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Logo%20GOUV_MEV_low" descr=""/>
          <p:cNvPicPr/>
          <p:nvPr/>
        </p:nvPicPr>
        <p:blipFill>
          <a:blip r:embed="rId5"/>
          <a:stretch/>
        </p:blipFill>
        <p:spPr>
          <a:xfrm>
            <a:off x="5638680" y="457200"/>
            <a:ext cx="1971720" cy="4748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68360" y="93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ckdaten der neuen Vergärungsan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880" y="3279600"/>
            <a:ext cx="591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pangaszumischung für die Herstellung identisc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renneigenschaften wie Erd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69120" y="2205000"/>
            <a:ext cx="744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ktion 2,8 Mio. Kubikmeter Biogas pro Jahr, daraus werden n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ogasreinigung (Aufkonzentrierung) ca. 1,6 Mio. Kubikme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o-Methan pro Jah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4200" y="4245120"/>
            <a:ext cx="52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inspeisung in das SUDGAZ-Erdgasnetz gepl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9560" y="5008680"/>
            <a:ext cx="714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ersorgung von bis zu 1.000 Haushalten mit umweltfreundlich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neuerbarem G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93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ckdaten der neuen Vergärungsan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7240" y="3855960"/>
            <a:ext cx="5758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kt ist Teil des nationalen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lokationspla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7560" y="3021120"/>
            <a:ext cx="71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sgesamt Einsparung von ca. 3.200 Tonnen Kohlendioxid pro Jah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50760" y="4724280"/>
            <a:ext cx="705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kt hat den Status eines nationalen Pilotprojektes zur Bioga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inspeisung in das Erdgasnetz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320" y="2205000"/>
            <a:ext cx="594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olzhackschnitzelanlage für Wärme-Eigenversorgu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e 22 Mitgliedsgemeinden des Syndikates Minett-Kom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349360"/>
            <a:ext cx="1886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asch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tt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lem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n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pp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fferd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udel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ch/Alz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ris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obsc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ayl/Tet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96280" y="2349360"/>
            <a:ext cx="1937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eudel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onderc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iederan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ét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ck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oe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umel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andwe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a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chiffl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chutt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3789360"/>
            <a:ext cx="2519640" cy="3373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Ca. 170.000 Einwoh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549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nliefermengen-Entwickl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376280"/>
          <a:ext cx="8569080" cy="407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76280"/>
                    <a:ext cx="856908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Ursachen der Abfall-Mengensteig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4149720"/>
            <a:ext cx="210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igerung der getrennt gesammelten Abfallmengen pro Einwoh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12536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igerung der  Einwohnerzahlen im Syndikatsgebi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00360" y="692280"/>
          <a:ext cx="6095880" cy="289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692280"/>
                    <a:ext cx="609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8360" y="3716280"/>
          <a:ext cx="6095880" cy="2895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3716280"/>
                    <a:ext cx="609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476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Wöchentlicher Verlauf der Anlief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409760"/>
          <a:ext cx="8280360" cy="393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09760"/>
                    <a:ext cx="828036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68360" y="936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enerelle Ursachen für den Anlagenausbau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111400"/>
            <a:ext cx="82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icht ausreichende Kapazität der Kompostwerkes, insbesonder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r warmen Jahreszei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4880" y="4503600"/>
            <a:ext cx="53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lgemeine Verbesserung der Anlagenflexibi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25760" y="3740040"/>
            <a:ext cx="45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eruchsproblematik durch Abtranspor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1320" y="3021120"/>
            <a:ext cx="57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transport von Übermengen, zum Teil ins Auslan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936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ckdaten der neuen Vergärungsanlag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11140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usätzliche Verarbeitungskapazität von 25.000 Tonnen Bioabf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9000" y="4503600"/>
            <a:ext cx="70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osten von 23,4 Mio. Euro, Förderung von 66% über Umweltfo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Umweltministerium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5480" y="374004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lagenhersteller Fa. LINDE KCA Dresden GmbH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5600" y="3021120"/>
            <a:ext cx="67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ktion von bis zu 7.000 Tonnen Kompost-Dünger pro Jah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7543800" cy="407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82560" y="21398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Voll geschlosse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nnahmeber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997360"/>
            <a:ext cx="144360" cy="122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84480" y="573408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Vergärung 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liegenden Ferm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932360" y="4508640"/>
            <a:ext cx="876240" cy="115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6960" y="5734080"/>
            <a:ext cx="250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Luftreinigung mitt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Wäscher und Bio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547640" y="4508280"/>
            <a:ext cx="57636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6440" y="213984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achbehandl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unnel-Kompost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2924280"/>
            <a:ext cx="1944720" cy="26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44280"/>
            <a:ext cx="53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Übersicht Vergärungsan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40000" y="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Geplante Verwertung für Biogas bei Minett-Kom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637000"/>
            <a:ext cx="640872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ogasveredelung zu Bio-Methan als Erdgaser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3933720"/>
            <a:ext cx="6408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inspeisung in das Erdgasn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484280"/>
            <a:ext cx="6408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neuerbare Energie „Biogas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 Rohgas aus der Vergä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5229360"/>
            <a:ext cx="640872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ogasnutz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ch private Gaskunden, in einer  Biomethan-Tankstelle oder in einem BHK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133720"/>
            <a:ext cx="217440" cy="43164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57720"/>
            <a:ext cx="217440" cy="43164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53000"/>
            <a:ext cx="217440" cy="43164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947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704000" y="0"/>
            <a:ext cx="1440000" cy="9637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3:31:00Z</dcterms:created>
  <dc:creator>iglux</dc:creator>
  <dc:description/>
  <dc:language>en-US</dc:language>
  <cp:lastModifiedBy>Nicole Lauff</cp:lastModifiedBy>
  <cp:lastPrinted>2004-07-01T10:02:39Z</cp:lastPrinted>
  <dcterms:modified xsi:type="dcterms:W3CDTF">2007-02-21T09:17:29Z</dcterms:modified>
  <cp:revision>65</cp:revision>
  <dc:subject/>
  <dc:title>Kein Folientitel</dc:title>
</cp:coreProperties>
</file>