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BB4-22E6-4EEF-AD58-4204AB8E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E2D-8D68-46B4-B9AA-BB9EC7DE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354-ADD2-4206-9519-254FCCED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4D2-0177-40FE-829F-4DF53102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D1D-04F0-4B97-9305-A515F97C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C506-6411-491B-95CD-5940C787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A62-E3E2-4E59-9EF4-924C9FED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DE69-4D46-477A-B5E0-84A7E41D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62D-120E-414B-A06A-5129AA9C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047-2F2B-42C3-8C8F-2C4C4FBE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85E-1ED8-4BB8-94C6-480DE7BE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8A1-5153-4F93-854F-1AA21A0C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8CA1-CDC4-459B-BEEC-3F5198E53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405800" y="3789360"/>
            <a:ext cx="69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>
                <a:solidFill>
                  <a:srgbClr val="ffffff"/>
                </a:solidFill>
                <a:latin typeface="Arial"/>
              </a:rPr>
              <a:t>Conférence de presse du Ministre des Sports Jeannot Krecké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>
                <a:solidFill>
                  <a:srgbClr val="ffffff"/>
                </a:solidFill>
                <a:latin typeface="Arial"/>
              </a:rPr>
              <a:t>Jeudi, le 24 janvier 2008 à l’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000080" y="2263680"/>
            <a:ext cx="742968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ès 2006,  appui et promotion renforcés du sport pour handicapé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ort budgétaire spé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ation d’un service sport/handicap au sein du D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gagement de deux personnes ayant le statut de handica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6516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2007, participation importante aux Special Olympics à Shangh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se à disposition des infrastructures sportives du Rehazenter en janvier 2008, signature convention entre Rehazenter / Ministère de la Santé / DMS concernant l’utilisation des installations spor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1000080" y="157176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 u="sng">
                <a:solidFill>
                  <a:srgbClr val="000000"/>
                </a:solidFill>
                <a:uFillTx/>
                <a:latin typeface="Arial"/>
              </a:rPr>
              <a:t>Sport pour handicap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000080" y="2205000"/>
            <a:ext cx="742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ncipe de base 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olérance zé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ines pénales prévues à l’article 16 de la nouvelle loi sportive du 3 août 2005 pour le transport, la détention, l’import, l’export, la vente ou la livraison même gratuitement de substances dopa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ême principe en cas de prescription par des médecins de médicaments à des fins de do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llaboration intensifiée avec la douane, les services de police, le parquet et le ministère de la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000080" y="157176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 u="sng">
                <a:solidFill>
                  <a:srgbClr val="000000"/>
                </a:solidFill>
                <a:uFillTx/>
                <a:latin typeface="Arial"/>
              </a:rPr>
              <a:t>Lutte antido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000080" y="1916280"/>
            <a:ext cx="789300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ite à la loi d’approbation du 24 novembre 2006, dépôt le 11 décembre 2006 auprès du Secrétaire Général de l’UNESCO à Paris de l’instru-ment de ratification de la Convention internationale contre le dopage dans le 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soumettant le 30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e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strument, le Luxembourg a déclenché la mise en vigueur de la Convention. Seuls 70 pays sur 200 ont signé cette Convention à ce jour 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i du 24 novembre 2006 portant approbation du protocole additionnel à la Convention contre le dopage dans le sport du Conseil de l’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aboration d’un système de qualité de l’ALAD (Certification ISO) en collaboration avec le CRP Henri Tu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gagement, depuis novembre 2007, d’une responsable administrative à plein temps au sein de l’A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000080" y="141300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 u="sng">
                <a:solidFill>
                  <a:srgbClr val="000000"/>
                </a:solidFill>
                <a:uFillTx/>
                <a:latin typeface="Arial"/>
              </a:rPr>
              <a:t>Lutte antido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000080" y="2263680"/>
            <a:ext cx="7429680" cy="41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12"/>
              </a:spcAft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ésence D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  Conseil de Fondation de l’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lors de la présidence luxembourgeoi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à la 3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Conférence Mondiale contre le Dopage dans le sport e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vembre 2007 à Madrid avec l’élection du nouveau président de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AMA et la révision du Code mondial antido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12"/>
              </a:spcAft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rspectives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inuer dans la voie engagée ave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us d’accent sur les contrôles inopinés hors compé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application du système ADAMS de la localisation des sporti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collaboration plus étroite dans le cadre d’un réseau avec l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tres agences antidopage nat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000080" y="157176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 u="sng">
                <a:solidFill>
                  <a:srgbClr val="000000"/>
                </a:solidFill>
                <a:uFillTx/>
                <a:latin typeface="Arial"/>
              </a:rPr>
              <a:t>Lutte antido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000080" y="2263680"/>
            <a:ext cx="742968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25"/>
              </a:spcAft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0720">
              <a:lnSpc>
                <a:spcPct val="100000"/>
              </a:lnSpc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cherche de solutions sur mesure en adéquation avec le rythme du jeune sportif, les contraintes de sa préparation et de ses entraînements et les impératifs des compétitions affér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0720">
              <a:lnSpc>
                <a:spcPct val="100000"/>
              </a:lnSpc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ation de conditions privilégiées pour les jeunes sportifs talentueux afin de réaliser des performances de haut niveau tout en gardant l’égalité des chances de leur formation scolaire et professi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0720">
              <a:lnSpc>
                <a:spcPct val="100000"/>
              </a:lnSpc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armonisation entre la scolarité et les objectifs sport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0720">
              <a:lnSpc>
                <a:spcPct val="100000"/>
              </a:lnSpc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arantie d’un retour à une scolarité traditionnelle à tout m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000080" y="157176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 u="sng">
                <a:solidFill>
                  <a:srgbClr val="000000"/>
                </a:solidFill>
                <a:uFillTx/>
                <a:latin typeface="Arial"/>
              </a:rPr>
              <a:t>Sports-E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1000080" y="2492280"/>
            <a:ext cx="7429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ptembre 2007: mise en route pratique du projet « Sports-Etudes »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à l’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jets d’extension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007-2008 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   4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008-2009 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 10 classes  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009-2010 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14 cla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jusqu’à :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 21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1000080" y="157176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 u="sng">
                <a:solidFill>
                  <a:srgbClr val="000000"/>
                </a:solidFill>
                <a:uFillTx/>
                <a:latin typeface="Arial"/>
              </a:rPr>
              <a:t>Sports-E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1000080" y="2421000"/>
            <a:ext cx="7429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classement du terrain de l’INS et construction d’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âtiment scolaire au courant de l’anné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jets de loi en préparation pou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a création d’un Lycée de « Sports-Etudes »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(Ministère de l’Education nation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utoriser la construction des bâtiments et installations du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« Lycée des Sports »    (Ministère des Travaux Publics)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s d’extension (internat, réfectoire, installations spor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pplémentaires) sur le site de l’INS à l’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1000080" y="157176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 u="sng">
                <a:solidFill>
                  <a:srgbClr val="000000"/>
                </a:solidFill>
                <a:uFillTx/>
                <a:latin typeface="Arial"/>
              </a:rPr>
              <a:t>Sports-E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000080" y="2205000"/>
            <a:ext cx="76755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Par année l’ENEPS traite de 40 à 50 cycles et modules de formation dans les divers domaines confiés par la loi du 28 novembre 1988 à savoir pour arbitres ou juges-arbitres, entraîneurs ou moniteurs, animateurs de sport-loisir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Il est veillé de prendre en considération selon les possibilités toutes les demandes des fédérations spor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ENEPS assure et coordonne des centres de formation avec douze fédérations spor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Initiatives futures nouvelles: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Formations spéciales pour l’encadrement de personnes âgées et la  jeune enf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971640" y="155736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 u="sng">
                <a:solidFill>
                  <a:srgbClr val="000000"/>
                </a:solidFill>
                <a:uFillTx/>
                <a:latin typeface="Arial"/>
              </a:rPr>
              <a:t>ENEPS / Centres d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1000080" y="1989000"/>
            <a:ext cx="742968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tre 2004 et 200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ides directes au mouvement sportif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ssent d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,36 à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,0 Mio €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it une progression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70% sur 4 a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puis 2006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vestissement de plus longue haleine avec une majoration trè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bstantielle des crédits au budget d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ribuer progressivement à garantir aux grandes fédérations une gestion de PME et les soutenir dans l’engagement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rsonnel qualifié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s’agit en même temp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’aides indirectes face au manque de bénévola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000080" y="157176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Sport de compéti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000080" y="2133720"/>
            <a:ext cx="7429680" cy="39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25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tre 2004 et 200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joration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16%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es crédits pour contribuer de façon accrue à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indemnisation des entraîneurs professionnel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au budget de 200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crédits inscrits au budget 2008 permettent de contribuer à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indemnisation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18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7 directeurs techniques nationaux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à tâche complète ou partielle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18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3 gestionnaires administratifs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don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premier poste de gestionnaire administratif, engagé par le COSL au « service des fédérations » 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22 secrétaires administratifs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engagés auprès des fédérations 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1000080" y="157176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Sport de compéti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432800" y="37861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 u="sng">
                <a:solidFill>
                  <a:srgbClr val="ffffff"/>
                </a:solidFill>
                <a:uFillTx/>
                <a:latin typeface="Arial"/>
              </a:rPr>
              <a:t>« Bilan et perspectives 2005 – 2009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000080" y="2263680"/>
            <a:ext cx="742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amen en cours au Conseil Supérieur des Sports 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grammes (et mesures individuelles) pour le sport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étition et d’é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sentation de concepts en 2007 par une douzain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édérations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nalisation des propositions afférentes du Conseil supérieur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ports au cours du mois de février 2008 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rédits supplémentaires disponibles au montant de 1,0 Mio €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partis sur différents articles budgétaires dès 2008 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000080" y="157176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Sport de compéti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1000080" y="2263680"/>
            <a:ext cx="7429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relèvement de 33% des crédits pour l’octroi de </a:t>
            </a: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congé spor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de 300.000.- € en 2006 à 400.000.- €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2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ncipales raisons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préparation olympique intensifiée dè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- forte participation aux Jeux des Petits Etats d’Europe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aux Special Olympics World Summer 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- nombre de bénéficiaires potentiels en progression cons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2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révision en cours du règlement grand-ducal sur le congé spor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Section du Sport d’Elite à l’Armée en place depuis 1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-  actuellement 10 sportifs font partie de cette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1000080" y="157176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Sport de compé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1000080" y="1989000"/>
            <a:ext cx="760428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600" spc="-1" strike="noStrike">
                <a:solidFill>
                  <a:srgbClr val="000000"/>
                </a:solidFill>
                <a:latin typeface="Arial"/>
              </a:rPr>
              <a:t>projets depuis 2004, à charge du budget de l’Etat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Rénovation et mise en conformité du hall des sports de l’I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ravaux de construction de la base nautique de Lultzhau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ise à disposition d’une nouvelle Maison des Sports au COSL et s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édérations affili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tion de nouveaux locaux dans l’intérêt de la Confédération européenne d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Volleyb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Rénovation des bureaux à Pulvermühl (annexe de l’INS) et installation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du Service Sport-Loisir dans ces loc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tablissement, en étroite collaboration avec la Direction de l’Aménag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du Territoire : - d’un inventaire avec état des lieux des piscines 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- d’un inventaire des halls des sports, des stades d’athlétisme et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         des terrains de footb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000080" y="141300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 u="sng">
                <a:solidFill>
                  <a:srgbClr val="000000"/>
                </a:solidFill>
                <a:uFillTx/>
                <a:latin typeface="Arial"/>
              </a:rPr>
              <a:t>Infra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971640" y="1989000"/>
            <a:ext cx="7964280" cy="41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1" lang="fr-LU" sz="1600" spc="-1" strike="noStrike">
                <a:solidFill>
                  <a:srgbClr val="000000"/>
                </a:solidFill>
                <a:latin typeface="Arial"/>
              </a:rPr>
              <a:t>projets depuis 2004 dans le cadre des programmes quinquennaux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1" lang="fr-L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LU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fr-LU" sz="16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fr-LU" sz="1600" spc="-1" strike="noStrike">
                <a:solidFill>
                  <a:srgbClr val="000000"/>
                </a:solidFill>
                <a:latin typeface="Arial"/>
              </a:rPr>
              <a:t> programme:</a:t>
            </a:r>
            <a:r>
              <a:rPr b="1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L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96 projets concernant 67 commu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1" lang="fr-L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LU" sz="1600" spc="-1" strike="noStrike">
                <a:solidFill>
                  <a:srgbClr val="000000"/>
                </a:solidFill>
                <a:latin typeface="Arial"/>
              </a:rPr>
              <a:t>Enveloppe financière: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10 Mio €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1" lang="fr-LU" sz="1600" spc="-1" strike="noStrike">
                <a:solidFill>
                  <a:srgbClr val="000000"/>
                </a:solidFill>
                <a:latin typeface="Arial"/>
              </a:rPr>
              <a:t>Exemples de projets à caractère national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entre national de tir à l’arc à grande distance à Strassen (en serv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-   Patinoire Kockelscheuer : centre d’entraînement national pour l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édérations de sports de glace (en serv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-   Consolidation de la piste existante de moto-cross à Bockholtz, commune d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oesdorf, et classement en piste nationale (travaux entamés en 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entre national de Quilles à Pétange (en proj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tade d’eau vive de canoë/kayak à Diekirch (études en voie de fin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entre national de boules et pétanque à Belvaux/Metzerl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(démarrage des travaux immin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ménagement de 25 terrains multisports dans le cadre du projet </a:t>
            </a:r>
            <a:r>
              <a:rPr b="0" i="1" lang="fr-LU" sz="1600" spc="-1" strike="noStrike">
                <a:solidFill>
                  <a:srgbClr val="000000"/>
                </a:solidFill>
                <a:latin typeface="Arial"/>
              </a:rPr>
              <a:t>Hattrick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de l’UEFA et de la F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1000080" y="141300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 u="sng">
                <a:solidFill>
                  <a:srgbClr val="000000"/>
                </a:solidFill>
                <a:uFillTx/>
                <a:latin typeface="Arial"/>
              </a:rPr>
              <a:t>Infrastructur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000080" y="1989000"/>
            <a:ext cx="742968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Perspectives d’avenir 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struction législative et mise en œuvre du 9</a:t>
            </a:r>
            <a:r>
              <a:rPr b="0" lang="fr-LU" sz="16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programme quinquen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d’équipement sportif avec une enveloppe financière prévue de 90 Mio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iste cycliste couverte planifiée avec la Ville de Luxembourg et la FSC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(Projet inscrit au 8</a:t>
            </a:r>
            <a:r>
              <a:rPr b="0" lang="fr-LU" sz="16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program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lanification pour la réalisation d’infrastructures sportives multiples sur le si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des Friches Belval (utilisateurs : grand public, Uni Lëtzebuerg, lycées,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édérations sportives et clu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ojet d’une Piste nationale de ski nautique sur la Moselle (Remerschen)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(études en cou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Nouveau Stade national de football 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(Réflexions sur le financement et recherche d’un s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1000080" y="141300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 u="sng">
                <a:solidFill>
                  <a:srgbClr val="000000"/>
                </a:solidFill>
                <a:uFillTx/>
                <a:latin typeface="Arial"/>
              </a:rPr>
              <a:t>Infrastruct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000080" y="2263680"/>
            <a:ext cx="742968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ase nautique Lultzhausen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raison de nombreux aléas, (déficiences irréparables de l’ancien bâtiment, conditions  imposées pour la préservation de l’environnement)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bandon du projet initia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modernisation de l’ancienne Base nautique de Lultzhause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2006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ouveau proje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modernisation et d’extension de l’ancienne bas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marré en janvi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os-œuvres achevés à ce jour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ise en servic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la nouvelle Bas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évue pour mi-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ette augmentation des activité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attendue, notamment par les classes scol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1000080" y="157176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 u="sng">
                <a:solidFill>
                  <a:srgbClr val="000000"/>
                </a:solidFill>
                <a:uFillTx/>
                <a:latin typeface="Arial"/>
              </a:rPr>
              <a:t>Infra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971640" y="2276640"/>
            <a:ext cx="763272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Mise en valeur du CNSC « d’COQUE »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Double anniversaire: 25 ans centre aquatique / 5 ans centre des espaces ;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Rythme de croisière atteint au niveau des activités régulières de toutes les catégories d’utilisateurs (centre aquatique, centre des espaces, centre de conférences, commerces) 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réalisation d’une exposition permanente sur l’histoire du sport luxembourgeois de 1884 à 1960 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Rénovation et modernisation des vestiaires et de l’Espace </a:t>
            </a:r>
            <a:r>
              <a:rPr b="0" i="1" lang="fr-LU" sz="1600" spc="-1" strike="noStrike">
                <a:solidFill>
                  <a:srgbClr val="000000"/>
                </a:solidFill>
                <a:latin typeface="Arial"/>
              </a:rPr>
              <a:t>Wellness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outien aux manifestations d’envergure : (CE en Volleyball, Marathon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1000080" y="157176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 u="sng">
                <a:solidFill>
                  <a:srgbClr val="000000"/>
                </a:solidFill>
                <a:uFillTx/>
                <a:latin typeface="Arial"/>
              </a:rPr>
              <a:t>Infra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000080" y="2263680"/>
            <a:ext cx="742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Médico-sportif / Sport et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Informatisation du service médico-spor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Extension du médico-sportif / E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Accord avec CRP-Santé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 première étude portant sur l’incidence des blessures aigu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lésions de surcharge chez les jeunes sportifs de haut nive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Convention avec CH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000080" y="157176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 u="sng">
                <a:solidFill>
                  <a:srgbClr val="000000"/>
                </a:solidFill>
                <a:uFillTx/>
                <a:latin typeface="Arial"/>
              </a:rPr>
              <a:t>Autres activités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000080" y="2263680"/>
            <a:ext cx="7604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Services au client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renforcement du personnel du DMS, de l’INS, de la base nautiqu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mise en place d’un portail internet du sport luxembourgeois 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simplification administrative, notamment pour les demandes de subsides 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assurances 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contribution à la loi sur l’immigration 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000080" y="157176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 u="sng">
                <a:solidFill>
                  <a:srgbClr val="000000"/>
                </a:solidFill>
                <a:uFillTx/>
                <a:latin typeface="Arial"/>
              </a:rPr>
              <a:t>Autres activ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1000080" y="1989000"/>
            <a:ext cx="774864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Relations internat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sidence de l’Union Européen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à défaut de Constitution européenne, pas de base légale pour 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port au sein de l’UE 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ribution du Luxembourg à travers les rendez-v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d’une réunion des directeurs des sports sui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d’une conférence informelle des ministres des sports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Présence aux conférences informelles des ministres des sports à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Stuttgart et Lisbonne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Traité de l’UE – Livre blanc de la Commission européenne sur le 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Réunion informelle à Lausanne le 29 janvier 2008 avec le CIO et certains ministres des sports europé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Visite d’un centre médico-sportif d’excellence en Norvège fin mai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1000080" y="1484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 u="sng">
                <a:solidFill>
                  <a:srgbClr val="000000"/>
                </a:solidFill>
                <a:uFillTx/>
                <a:latin typeface="Arial"/>
              </a:rPr>
              <a:t>Autres activ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55640" y="2781360"/>
            <a:ext cx="820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43160"/>
                <a:tab algn="l" pos="2685960"/>
                <a:tab algn="l" pos="4029120"/>
                <a:tab algn="l" pos="5372280"/>
                <a:tab algn="l" pos="6715080"/>
                <a:tab algn="l" pos="8058240"/>
                <a:tab algn="l" pos="9401040"/>
                <a:tab algn="l" pos="10744200"/>
              </a:tabLst>
            </a:pP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2004:</a:t>
            </a: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Mise en place</a:t>
            </a: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d’un département ministériel des sports auto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3160"/>
                <a:tab algn="l" pos="2685960"/>
                <a:tab algn="l" pos="4029120"/>
                <a:tab algn="l" pos="5372280"/>
                <a:tab algn="l" pos="6715080"/>
                <a:tab algn="l" pos="8058240"/>
                <a:tab algn="l" pos="9401040"/>
                <a:tab algn="l" pos="10744200"/>
              </a:tabLst>
            </a:pP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Partenariats COSL, CSEPS et COQUE  /  A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3160"/>
                <a:tab algn="l" pos="2685960"/>
                <a:tab algn="l" pos="4029120"/>
                <a:tab algn="l" pos="5372280"/>
                <a:tab algn="l" pos="6715080"/>
                <a:tab algn="l" pos="8058240"/>
                <a:tab algn="l" pos="940104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3160"/>
                <a:tab algn="l" pos="2685960"/>
                <a:tab algn="l" pos="4029120"/>
                <a:tab algn="l" pos="5372280"/>
                <a:tab algn="l" pos="6715080"/>
                <a:tab algn="l" pos="8058240"/>
                <a:tab algn="l" pos="9401040"/>
                <a:tab algn="l" pos="10744200"/>
              </a:tabLst>
            </a:pP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2005/2006:</a:t>
            </a: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Loi sur le sport / Présidence de l’UE / Sport pour t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3160"/>
                <a:tab algn="l" pos="2685960"/>
                <a:tab algn="l" pos="4029120"/>
                <a:tab algn="l" pos="5372280"/>
                <a:tab algn="l" pos="6715080"/>
                <a:tab algn="l" pos="8058240"/>
                <a:tab algn="l" pos="9401040"/>
                <a:tab algn="l" pos="10744200"/>
              </a:tabLst>
            </a:pP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Etude sur la motricité / Projet de recherche</a:t>
            </a: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3160"/>
                <a:tab algn="l" pos="2685960"/>
                <a:tab algn="l" pos="4029120"/>
                <a:tab algn="l" pos="5372280"/>
                <a:tab algn="l" pos="6715080"/>
                <a:tab algn="l" pos="8058240"/>
                <a:tab algn="l" pos="940104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3160"/>
                <a:tab algn="l" pos="2685960"/>
                <a:tab algn="l" pos="4029120"/>
                <a:tab algn="l" pos="5372280"/>
                <a:tab algn="l" pos="6715080"/>
                <a:tab algn="l" pos="8058240"/>
                <a:tab algn="l" pos="9401040"/>
                <a:tab algn="l" pos="10744200"/>
              </a:tabLst>
            </a:pP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2006/2007:</a:t>
            </a: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Maison des Sports / Sport pour handicapés / Lutte antidopage</a:t>
            </a: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3160"/>
                <a:tab algn="l" pos="2685960"/>
                <a:tab algn="l" pos="4029120"/>
                <a:tab algn="l" pos="5372280"/>
                <a:tab algn="l" pos="6715080"/>
                <a:tab algn="l" pos="8058240"/>
                <a:tab algn="l" pos="9401040"/>
                <a:tab algn="l" pos="10744200"/>
              </a:tabLst>
            </a:pP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Relance du programme d’infra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3160"/>
                <a:tab algn="l" pos="2685960"/>
                <a:tab algn="l" pos="4029120"/>
                <a:tab algn="l" pos="5372280"/>
                <a:tab algn="l" pos="6715080"/>
                <a:tab algn="l" pos="8058240"/>
                <a:tab algn="l" pos="9401040"/>
                <a:tab algn="l" pos="10744200"/>
              </a:tabLst>
            </a:pP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3160"/>
                <a:tab algn="l" pos="2685960"/>
                <a:tab algn="l" pos="4029120"/>
                <a:tab algn="l" pos="5372280"/>
                <a:tab algn="l" pos="6715080"/>
                <a:tab algn="l" pos="8058240"/>
                <a:tab algn="l" pos="9401040"/>
                <a:tab algn="l" pos="10744200"/>
              </a:tabLst>
            </a:pP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2007/2008:</a:t>
            </a: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Sports-Etudes / Sport de compétition / Infra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3160"/>
                <a:tab algn="l" pos="2685960"/>
                <a:tab algn="l" pos="4029120"/>
                <a:tab algn="l" pos="5372280"/>
                <a:tab algn="l" pos="6715080"/>
                <a:tab algn="l" pos="8058240"/>
                <a:tab algn="l" pos="9401040"/>
                <a:tab algn="l" pos="107442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Valorisation du bénévolat / Simplification administ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84360" y="1700280"/>
            <a:ext cx="77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 u="sng">
                <a:solidFill>
                  <a:srgbClr val="000000"/>
                </a:solidFill>
                <a:uFillTx/>
                <a:latin typeface="Arial"/>
              </a:rPr>
              <a:t>Les priorités au fil des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000080" y="2349360"/>
            <a:ext cx="7429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doption de la nouvelle loi sportive du 3 août 20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remplacement de celle du 26 mars 197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le strict respect du principe de subsidiarité, cette nouvelle loi constitue à moyen terme la base légale pour l’organisation sportive luxembourgeoise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nouvelles dispositions légales ont trait notamment à la protection des fédérations sportives agréées, à la reconnaissance du sport de compétition et d’un statut de sportif de haut niveau et au bénévol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1000080" y="157176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Nouvelle loi sportiv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971640" y="2276640"/>
            <a:ext cx="7429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suite des activités traditionn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ournées nationales, Brevet sportif, Calendrier du sport-lois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mpagne „Europa beweegt sech“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ires et journées de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n d’action national „Gesond iessen, méi bewegen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mpagne Meter fir Meter 2007 – 20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Lafen, Velofueren, Schwammen, Go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jets-pilotes avec 4 commu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Préizerdaul, Roeser, Wiltz et Bettembo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1000080" y="157176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Sport loisir: Tradition et Innov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1000080" y="2263680"/>
            <a:ext cx="7429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Actions restant à développer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Sport pour personnes âg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Guide  « sport et santé dans les commune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Participation à des actions et campagnes dans le cadre de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« Gesond iessen, méi bewegen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Campagne Meter fir Meter 2009 – 2010  (Schwammen, Go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1000080" y="157176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 u="sng">
                <a:solidFill>
                  <a:srgbClr val="000000"/>
                </a:solidFill>
                <a:uFillTx/>
                <a:latin typeface="Arial"/>
              </a:rPr>
              <a:t>Sport loisir </a:t>
            </a:r>
            <a:r>
              <a:rPr b="0" lang="fr-L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900000" y="155736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 u="sng">
                <a:solidFill>
                  <a:srgbClr val="000000"/>
                </a:solidFill>
                <a:uFillTx/>
                <a:latin typeface="Arial"/>
              </a:rPr>
              <a:t>Patrimoine spor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436120"/>
            <a:ext cx="7561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Collections complétées, acquisition d’obj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Exposition permanente et livre sur l’histoire du sport luxembourgeoi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de 1884 à 1960: « Le sport luxembourgeois au fil des décennie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Mise à disposition de documentation aux fédérations et associa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sportives et collaboration lors de l’édition de brochures ou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d’expos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Actions restant à développ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Mise en conformité des conditions de détention et de consultation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des documents du patrimoine spor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Exposition « Le sport luxembourgeois au fil des décennies » à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complé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000080" y="2492280"/>
            <a:ext cx="7429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Coopération avec MENFP dans le cadre de « Meter fir Meter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primaire : meng Klass leeft e Marathon / Lycées : mir lafen an d’Zukun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Projet sport et langues (Lycée du Nord – Wiltz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Discussion sur un projet d’innovation pédagog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« mouvement, sport et santé » dans l’enseignement second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1000080" y="157176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Sport </a:t>
            </a:r>
            <a:r>
              <a:rPr b="1" lang="fr-LU" sz="1800" spc="-1" strike="noStrike" u="sng">
                <a:solidFill>
                  <a:srgbClr val="000000"/>
                </a:solidFill>
                <a:uFillTx/>
                <a:latin typeface="Arial"/>
              </a:rPr>
              <a:t>à l’école</a:t>
            </a:r>
            <a:r>
              <a:rPr b="1" lang="fr-L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800" spc="-1" strike="noStrike">
                <a:solidFill>
                  <a:srgbClr val="000000"/>
                </a:solidFill>
                <a:latin typeface="Arial"/>
              </a:rPr>
              <a:t>(compétence access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000080" y="2421000"/>
            <a:ext cx="7429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auguration de la nouvelle Maison des Sports  « Josy Barthel » à  Strassen le 7 mar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ec une surface de 3.385 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elle offre deux fois plus de place  que l’ancienne Maison de Sports sise avenue de la G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1 bureaux et 14 salles de réunions pour le COSL et 37 fédé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 fédérations ont rejoint les 29 autres déjà installées précédemment à l’ancienne Maison des S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000080" y="157176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1800" spc="-1" strike="noStrike" u="sng">
                <a:solidFill>
                  <a:srgbClr val="000000"/>
                </a:solidFill>
                <a:uFillTx/>
                <a:latin typeface="Arial"/>
              </a:rPr>
              <a:t>Maison des S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4:29:23Z</dcterms:created>
  <dc:creator>Jens</dc:creator>
  <dc:description/>
  <dc:language>en-US</dc:language>
  <cp:lastModifiedBy>C.I.E.</cp:lastModifiedBy>
  <dcterms:modified xsi:type="dcterms:W3CDTF">2008-01-24T11:14:23Z</dcterms:modified>
  <cp:revision>104</cp:revision>
  <dc:subject/>
  <dc:title>Slide 1</dc:title>
</cp:coreProperties>
</file>